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re is not always a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uck St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, Extend, Translate,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ment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video of One Duck Stuck - start at the pause in the reading when beginning to represent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ackground information regarding lesson goal and thinking on the fly - to change the lesson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- reiterate importance of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linear sequence - can be recur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p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is tool and why - helps students understand concept of ‘te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1 - most appropriate to represent as a simple bar graph - in whole group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4 - more appropriate to begin to create independently as seen in grade 2 student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1EC4-BDE1-4A18-943B-2B18AEE24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5B66-A875-4E67-8278-E2DA20C69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D3A8-B348-4C3E-9E7D-89F1DFADA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58AC-A88C-48C6-A3E7-2CED0AE8F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10EC-3575-4271-AE28-5F7355CE3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EC20-05D4-4CD6-8CFC-A04BA9409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A6E7-09D2-4F72-8C50-F5333FE38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3373-D8F0-4C7D-8E2B-F7380DB9D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C71D-85C3-4EF3-B92A-F17E2FE14A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34F0-4B82-4A41-9A40-19084E1E8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5213-0CDD-4DE0-BD77-ABBC5544F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1337-4595-4A84-9529-9D3D21BAB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3EE4-D67E-49D3-B320-2F1EBF4CA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98DA-989F-4536-8B9C-325F6DAFDA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EE00-4BB1-496B-9054-A69E394CD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9470-9B29-465F-9937-78795898D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8CED-AFA1-4E55-A23D-A49F9EC82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4968-2F16-4D61-8E7E-990FF1096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4DD6-DDD1-4EF3-A220-30D8D9505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A4E2-004C-4405-9BB2-4A8399F08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579F-C2EA-43C2-B47F-4C9721D7D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E43F-7D4C-4ECF-A651-DD240F0B4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9052-E4E2-48E9-AB22-E927B4CD1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532B-CDDA-4FC9-9B5A-664723B4C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3CF-8D28-41B8-9564-7A7650CC44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963-D5C1-42B7-9EBF-E973CCC9C1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FBAE-2DF3-4EA3-ABCE-AF3942E06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4800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8000"/>
                </a:solidFill>
                <a:latin typeface="Arial"/>
              </a:rPr>
              <a:t>Building Learning Goals &amp; Consolidat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800600" y="2514600"/>
            <a:ext cx="43434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Gen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B8A-C220-44C0-B0F0-9C3E114E02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88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2A42-676F-4D06-8696-A8A1DC5072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196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9EF-E702-4B8E-BF60-665E1A0D71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04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0CA-3D71-42A9-AE6D-B90E5FD0DA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207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210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212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building mats, position cards and common language to identify and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tudent work to identify multiplica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lenary foci (multiplicative thinking, multiple representations and general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AD0-D9F0-4ED9-AF7B-0CF1E0084D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 teac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  (“in the pocket questions”,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DC11-85DC-4251-A87F-E7B954F247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Learning Goals &amp; Teacher Move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E788-5DCE-417F-8BDA-72F605C80E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601992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1AA6-AD2F-4B88-81CA-558A3864D1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C12E-950E-40DD-B400-00259DA75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16" name="Group 28"/>
            <p:cNvGrpSpPr/>
            <p:nvPr/>
          </p:nvGrpSpPr>
          <p:grpSpPr>
            <a:xfrm>
              <a:off x="1066680" y="1523880"/>
              <a:ext cx="1688760" cy="1645200"/>
              <a:chOff x="1066680" y="1523880"/>
              <a:chExt cx="1688760" cy="16452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20"/>
              <p:cNvSpPr/>
              <p:nvPr/>
            </p:nvSpPr>
            <p:spPr>
              <a:xfrm>
                <a:off x="157320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4"/>
            <p:cNvGrpSpPr/>
            <p:nvPr/>
          </p:nvGrpSpPr>
          <p:grpSpPr>
            <a:xfrm>
              <a:off x="3346560" y="1523880"/>
              <a:ext cx="1688760" cy="1645200"/>
              <a:chOff x="3346560" y="1523880"/>
              <a:chExt cx="1688760" cy="1645200"/>
            </a:xfrm>
          </p:grpSpPr>
          <p:sp>
            <p:nvSpPr>
              <p:cNvPr id="122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21"/>
              <p:cNvSpPr/>
              <p:nvPr/>
            </p:nvSpPr>
            <p:spPr>
              <a:xfrm>
                <a:off x="393696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3"/>
            <p:cNvGrpSpPr/>
            <p:nvPr/>
          </p:nvGrpSpPr>
          <p:grpSpPr>
            <a:xfrm>
              <a:off x="5542200" y="1523880"/>
              <a:ext cx="1688760" cy="1645200"/>
              <a:chOff x="5542200" y="1523880"/>
              <a:chExt cx="1688760" cy="1645200"/>
            </a:xfrm>
          </p:grpSpPr>
          <p:sp>
            <p:nvSpPr>
              <p:cNvPr id="129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638640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22"/>
              <p:cNvSpPr/>
              <p:nvPr/>
            </p:nvSpPr>
            <p:spPr>
              <a:xfrm>
                <a:off x="630252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44"/>
            <p:cNvGrpSpPr/>
            <p:nvPr/>
          </p:nvGrpSpPr>
          <p:grpSpPr>
            <a:xfrm>
              <a:off x="1066680" y="3926520"/>
              <a:ext cx="5797800" cy="1644480"/>
              <a:chOff x="1066680" y="3926520"/>
              <a:chExt cx="5797800" cy="1644480"/>
            </a:xfrm>
          </p:grpSpPr>
          <p:sp>
            <p:nvSpPr>
              <p:cNvPr id="138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Box 27"/>
              <p:cNvSpPr/>
              <p:nvPr/>
            </p:nvSpPr>
            <p:spPr>
              <a:xfrm>
                <a:off x="1572840" y="517212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27"/>
              <p:cNvSpPr/>
              <p:nvPr/>
            </p:nvSpPr>
            <p:spPr>
              <a:xfrm>
                <a:off x="380988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27"/>
              <p:cNvSpPr/>
              <p:nvPr/>
            </p:nvSpPr>
            <p:spPr>
              <a:xfrm>
                <a:off x="601992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43"/>
            <p:cNvGrpSpPr/>
            <p:nvPr/>
          </p:nvGrpSpPr>
          <p:grpSpPr>
            <a:xfrm>
              <a:off x="3430800" y="3926520"/>
              <a:ext cx="1688760" cy="1156680"/>
              <a:chOff x="3430800" y="3926520"/>
              <a:chExt cx="1688760" cy="11566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>
              <a:off x="6048720" y="437148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152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Creat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A76-1231-48D3-9AFC-364C05917A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wo patterns that look different but have the same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pattern rule on a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tent Placeholder 5"/>
          <p:cNvSpPr/>
          <p:nvPr/>
        </p:nvSpPr>
        <p:spPr>
          <a:xfrm>
            <a:off x="304920" y="3733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87000"/>
          </a:bodyPr>
          <a:p>
            <a:pPr marL="3326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ontent Placeholder 6" descr=""/>
          <p:cNvPicPr/>
          <p:nvPr/>
        </p:nvPicPr>
        <p:blipFill>
          <a:blip r:embed="rId1"/>
          <a:stretch/>
        </p:blipFill>
        <p:spPr>
          <a:xfrm>
            <a:off x="4632480" y="3705120"/>
            <a:ext cx="42987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828C-DB0D-4B12-BD1C-7D6814127B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A4E-98D6-49C0-9D54-8797269DD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Cards &amp; Building Ma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might we represent your patterns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0F15-2688-4745-BD44-293267B847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1978200"/>
            <a:ext cx="6782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5:35:58Z</dcterms:created>
  <dc:creator>CSC</dc:creator>
  <dc:description/>
  <cp:keywords/>
  <dc:language>en-US</dc:language>
  <cp:lastModifiedBy>Computer Services</cp:lastModifiedBy>
  <dcterms:modified xsi:type="dcterms:W3CDTF">2011-08-19T00:12:18Z</dcterms:modified>
  <cp:revision>53</cp:revision>
  <dc:subject/>
  <dc:title>&lt;Title&gt;</dc:title>
</cp:coreProperties>
</file>